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9283700" cy="6948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284400" cy="69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02264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5258880" y="0"/>
            <a:ext cx="402300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2905200" y="520200"/>
            <a:ext cx="3473280" cy="2605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0" y="6597720"/>
            <a:ext cx="402264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525888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06859-9A5C-4C3C-A308-D8B78982BE3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FEF2D-1988-44B6-9435-D4FA24D1AA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9C17C-8F7B-41B9-9AC8-3777468CE0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0BFBC-9BEE-4FCB-939C-EA041C454E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21E14-E607-4F71-88DB-4BE935F869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88C85-AA6F-4EE3-8590-BC1F472B94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A9477-8954-4F8F-B936-E09E018158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DC3F1-D770-4647-9F55-B835571368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F4F91-47E0-44A0-9ADA-74BD3DE7AB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0836B-0154-45CA-93A7-73C3CF7852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B6F0C-19A7-4D93-88BF-5E388ACB9B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BFFE3-BA17-4870-BEB5-E30B7DFDB7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DFA1A-5627-4226-9179-095E9BF35E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822A8-7605-4E53-9068-685CB366E4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E28BD-D47C-4F6C-89F8-E6D4846C51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523880" y="378216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4760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8524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4624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52388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8524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64624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523880" y="914040"/>
            <a:ext cx="6096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4760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523880" y="378216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4760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8524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4624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52388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8524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64624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523880" y="914040"/>
            <a:ext cx="6096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4760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9" descr="foodpyramid_bkgrn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6" descr="foodpyramid_cover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mypyramid.gov/professionals/food_tracking_wksht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e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entury Gothic"/>
              </a:rPr>
              <a:t>Steps to a healthier you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2514600" y="190512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200" spc="-1" strike="noStrike">
                <a:solidFill>
                  <a:srgbClr val="000000"/>
                </a:solidFill>
                <a:latin typeface="Century Gothic"/>
                <a:ea typeface="Arial"/>
              </a:rPr>
              <a:t>FOOD</a:t>
            </a:r>
            <a:r>
              <a:rPr b="0" lang="en-US" sz="8200" spc="-1" strike="noStrike">
                <a:solidFill>
                  <a:srgbClr val="000000"/>
                </a:solidFill>
                <a:latin typeface="Century Gothic"/>
                <a:ea typeface="Arial"/>
              </a:rPr>
              <a:t> 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2057400" y="2514600"/>
            <a:ext cx="5029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200" spc="-1" strike="noStrike">
                <a:solidFill>
                  <a:srgbClr val="000000"/>
                </a:solidFill>
                <a:latin typeface="Century Gothic"/>
                <a:ea typeface="Arial"/>
              </a:rPr>
              <a:t>Pyramid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1" descr="foodpyramid_protie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Meat and Beans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Go lean on protein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Meats and beans give you protein to grow strong muscles and improve brain function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Limit your meats to lean beef, chicken, and pork – you can get a lot of fat with me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hildren need 5 ounces of protein a day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Discretionary Calories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Extras for luxury food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hat are discretionary calories?  Foods you would like to have that don’t fit in any of the other categories, or are above the recommended amounts – like birthday cake, ice cream, or candy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You should limit these foods to NO MORE than 150 calories a meal or snack – make wise choice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1" name="Picture 12" descr=""/>
          <p:cNvPicPr/>
          <p:nvPr/>
        </p:nvPicPr>
        <p:blipFill>
          <a:blip r:embed="rId1"/>
          <a:stretch/>
        </p:blipFill>
        <p:spPr>
          <a:xfrm>
            <a:off x="2743200" y="4799160"/>
            <a:ext cx="3429000" cy="13190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Physical Activity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trive for 60 minutes or more per day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hat is physical activity?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Discuss moderate vs. vigorous activity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olicit class feedback for examples of moderate and vigorous activities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2743200" y="4799160"/>
            <a:ext cx="3429000" cy="13190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Eat Well and Stay Healthy!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Encourage children to use the MyPyramid Worksheet, for a week, and to eat their favorite foods in each group to meet their daily requirements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Download the worksheet here: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entury Gothic"/>
                <a:hlinkClick r:id="rId1"/>
              </a:rPr>
              <a:t>MyPyramid Worksheet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Discuss their findings at the end of the week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How might each child eat more healthfully?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7" name="Picture 20" descr=""/>
          <p:cNvPicPr/>
          <p:nvPr/>
        </p:nvPicPr>
        <p:blipFill>
          <a:blip r:embed="rId2"/>
          <a:stretch/>
        </p:blipFill>
        <p:spPr>
          <a:xfrm>
            <a:off x="2743200" y="4800600"/>
            <a:ext cx="3429000" cy="13190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ummarize the health benefits of each food group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Research on any new finding about food and health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ontinue keeping a food diary.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trive for 60 minutes or more of physical activity every day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0" name="Picture 6" descr=""/>
          <p:cNvPicPr/>
          <p:nvPr/>
        </p:nvPicPr>
        <p:blipFill>
          <a:blip r:embed="rId1"/>
          <a:stretch/>
        </p:blipFill>
        <p:spPr>
          <a:xfrm>
            <a:off x="2743200" y="4799160"/>
            <a:ext cx="3429000" cy="13190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Eating Right Every Day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e will be learning about the relationship between good nutrition and health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1" name="Picture 10" descr=""/>
          <p:cNvPicPr/>
          <p:nvPr/>
        </p:nvPicPr>
        <p:blipFill>
          <a:blip r:embed="rId1"/>
          <a:stretch/>
        </p:blipFill>
        <p:spPr>
          <a:xfrm>
            <a:off x="2743200" y="4390920"/>
            <a:ext cx="3429000" cy="13194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08" descr="foodpyramid_1"/>
          <p:cNvPicPr/>
          <p:nvPr/>
        </p:nvPicPr>
        <p:blipFill>
          <a:blip r:embed="rId1"/>
          <a:stretch/>
        </p:blipFill>
        <p:spPr>
          <a:xfrm>
            <a:off x="3048120" y="1676520"/>
            <a:ext cx="4605120" cy="36273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3733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e Food Pyramid</a:t>
            </a:r>
            <a:br>
              <a:rPr sz="3200"/>
            </a:b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Steps to a healthier you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Text Box 100"/>
          <p:cNvSpPr/>
          <p:nvPr/>
        </p:nvSpPr>
        <p:spPr>
          <a:xfrm>
            <a:off x="2286000" y="5410080"/>
            <a:ext cx="914400" cy="228600"/>
          </a:xfrm>
          <a:prstGeom prst="rect">
            <a:avLst/>
          </a:prstGeom>
          <a:solidFill>
            <a:srgbClr val="eb97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rmAutofit fontScale="89000"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  <a:ea typeface="Arial"/>
              </a:rPr>
              <a:t>GRAI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1"/>
          <p:cNvSpPr/>
          <p:nvPr/>
        </p:nvSpPr>
        <p:spPr>
          <a:xfrm>
            <a:off x="3276720" y="5410080"/>
            <a:ext cx="914400" cy="228600"/>
          </a:xfrm>
          <a:prstGeom prst="rect">
            <a:avLst/>
          </a:prstGeom>
          <a:solidFill>
            <a:srgbClr val="33a6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rmAutofit fontScale="89000"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  <a:ea typeface="Arial"/>
              </a:rPr>
              <a:t>VEGETAB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02"/>
          <p:cNvSpPr/>
          <p:nvPr/>
        </p:nvSpPr>
        <p:spPr>
          <a:xfrm>
            <a:off x="4267080" y="5410080"/>
            <a:ext cx="914400" cy="228600"/>
          </a:xfrm>
          <a:prstGeom prst="rect">
            <a:avLst/>
          </a:prstGeom>
          <a:solidFill>
            <a:srgbClr val="b727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rmAutofit fontScale="89000"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  <a:ea typeface="Arial"/>
              </a:rPr>
              <a:t>FRU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3"/>
          <p:cNvSpPr/>
          <p:nvPr/>
        </p:nvSpPr>
        <p:spPr>
          <a:xfrm>
            <a:off x="5257800" y="5410080"/>
            <a:ext cx="914400" cy="228600"/>
          </a:xfrm>
          <a:prstGeom prst="rect">
            <a:avLst/>
          </a:prstGeom>
          <a:solidFill>
            <a:srgbClr val="f9d7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rmAutofit fontScale="89000"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  <a:ea typeface="Arial"/>
              </a:rPr>
              <a:t>OI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04"/>
          <p:cNvSpPr/>
          <p:nvPr/>
        </p:nvSpPr>
        <p:spPr>
          <a:xfrm>
            <a:off x="6248520" y="5410080"/>
            <a:ext cx="914400" cy="228600"/>
          </a:xfrm>
          <a:prstGeom prst="rect">
            <a:avLst/>
          </a:prstGeom>
          <a:solidFill>
            <a:srgbClr val="60c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rmAutofit fontScale="89000"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  <a:ea typeface="Arial"/>
              </a:rPr>
              <a:t>MIL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5"/>
          <p:cNvSpPr/>
          <p:nvPr/>
        </p:nvSpPr>
        <p:spPr>
          <a:xfrm>
            <a:off x="7238880" y="5410080"/>
            <a:ext cx="914400" cy="228600"/>
          </a:xfrm>
          <a:prstGeom prst="rect">
            <a:avLst/>
          </a:prstGeom>
          <a:solidFill>
            <a:srgbClr val="7968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rmAutofit fontScale="88000"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  <a:ea typeface="Arial"/>
              </a:rPr>
              <a:t>MEAT &amp; BEA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Chart 3" descr=""/>
          <p:cNvPicPr/>
          <p:nvPr/>
        </p:nvPicPr>
        <p:blipFill>
          <a:blip r:embed="rId1"/>
          <a:stretch/>
        </p:blipFill>
        <p:spPr>
          <a:xfrm>
            <a:off x="1292400" y="1146240"/>
            <a:ext cx="6327720" cy="4565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7" descr="foodpyramid_brea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Grains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Make half of your grains whol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ome examples of grains are: oatmeal, wheat, rye, and barley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hole grain wheat bread is better for you than white bread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ereals are grains, like Cheerios, Mini-Wheats, and Bran Flake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hildren should have  6 servings of grains a day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9" descr="foodpyramid_veggi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Vegetables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Vary your veggie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Vegetables include carrots, broccoli, beans, peppers, lettuce, and tomatoe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You need green, orange, and red – vary your colors for the best balance of vitamins and nutrient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hildren need 2½ cups of vegetables a day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0" descr="foodpyramid_frui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ruits</a:t>
            </a:r>
            <a:br>
              <a:rPr sz="3200"/>
            </a:b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cus on fruit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ruits contain a wide variety of vitamin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ruits like pineapples, apples, oranges, peaches, apricots, and pears are readily availabl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resh is best, but canned or frozen are fine out of season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hildren need 1½ cups of fruit every day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7" descr="foodpyramid_oi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Oils</a:t>
            </a:r>
            <a:br>
              <a:rPr sz="3200"/>
            </a:b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Know your fat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Oils and fats include fried food, butter or margarine, salad dressings, and milkfat in milk and chees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You should limit your fat intake, as it is linked to blood vessel disease and heart attacks, and builds up in your body over tim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hildren need no more than 3 servings a day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2" descr="foodpyramid_mil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Milk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Get your calcium rich food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alcium rich foods include milk and cheese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alcium builds strong bones and teeth, and helps your muscles become stronger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hildren need 3 cups of milk or cheese a day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1T15:18:51Z</dcterms:created>
  <dc:creator>Ector County ISD Employee</dc:creator>
  <dc:description/>
  <dc:language>en-US</dc:language>
  <cp:lastModifiedBy>RK</cp:lastModifiedBy>
  <dcterms:modified xsi:type="dcterms:W3CDTF">2015-12-11T14:27:39Z</dcterms:modified>
  <cp:revision>44</cp:revision>
  <dc:subject/>
  <dc:title>th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88041033</vt:lpwstr>
  </property>
</Properties>
</file>